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65C-501E-4638-A450-174EDF19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651-4B01-47CA-A2D4-ECA7E5D6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F9B-3716-40FB-BC78-E5626232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678-A79C-44DA-9B9B-782B3869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0CB-39C5-4DCB-B537-3A83A75C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351-2663-4A7E-9B3B-F662104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2F7-0388-4A67-9FBF-70E32BDB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FE0-7469-4F12-810A-3609508E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162-F532-49B7-A7DB-D2A6CBC0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011-2A83-4B26-BEB6-D591A759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C87-6C94-4D86-A21B-6BE7E4AF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A2F-9986-497E-99FB-398CCF2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59CC-7A53-4E8D-BD1E-81B68256DE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9240" y="62064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9240" y="24210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99"/>
                </a:solidFill>
                <a:latin typeface="Arial"/>
                <a:ea typeface="NtMotoyaKyotai"/>
              </a:rPr>
              <a:t>スポー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9240" y="422100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9900cc"/>
                </a:solidFill>
                <a:latin typeface="Arial"/>
                <a:ea typeface="NtMotoyaKyotai"/>
              </a:rPr>
              <a:t>もんだ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36880" y="580536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Comic Sans MS"/>
              </a:rPr>
              <a:t>10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j0232064" descr=""/>
          <p:cNvPicPr/>
          <p:nvPr/>
        </p:nvPicPr>
        <p:blipFill>
          <a:blip r:embed="rId1"/>
          <a:stretch/>
        </p:blipFill>
        <p:spPr>
          <a:xfrm>
            <a:off x="7616880" y="260280"/>
            <a:ext cx="1989000" cy="2016360"/>
          </a:xfrm>
          <a:prstGeom prst="rect">
            <a:avLst/>
          </a:prstGeom>
          <a:ln w="0">
            <a:noFill/>
          </a:ln>
        </p:spPr>
      </p:pic>
      <p:pic>
        <p:nvPicPr>
          <p:cNvPr id="46" name="qi_lg_z2[1]" descr=""/>
          <p:cNvPicPr/>
          <p:nvPr/>
        </p:nvPicPr>
        <p:blipFill>
          <a:blip r:embed="rId2"/>
          <a:stretch/>
        </p:blipFill>
        <p:spPr>
          <a:xfrm>
            <a:off x="560520" y="4437000"/>
            <a:ext cx="1463400" cy="1873440"/>
          </a:xfrm>
          <a:prstGeom prst="rect">
            <a:avLst/>
          </a:prstGeom>
          <a:ln w="0">
            <a:noFill/>
          </a:ln>
        </p:spPr>
      </p:pic>
      <p:pic>
        <p:nvPicPr>
          <p:cNvPr id="47" name="j0232438" descr=""/>
          <p:cNvPicPr/>
          <p:nvPr/>
        </p:nvPicPr>
        <p:blipFill>
          <a:blip r:embed="rId3"/>
          <a:stretch/>
        </p:blipFill>
        <p:spPr>
          <a:xfrm>
            <a:off x="7616880" y="4581360"/>
            <a:ext cx="1942920" cy="185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4520" y="260280"/>
            <a:ext cx="201600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6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6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600"/>
                            </p:stCondLst>
                            <p:childTnLst>
                              <p:par>
                                <p:cTn id="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81240" y="907920"/>
            <a:ext cx="5975280" cy="570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7400" y="907920"/>
            <a:ext cx="3168720" cy="2305080"/>
          </a:xfrm>
          <a:prstGeom prst="wedgeEllipseCallout">
            <a:avLst>
              <a:gd name="adj1" fmla="val -56712"/>
              <a:gd name="adj2" fmla="val 49106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 a street shop in Japan, you have found this sign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9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can you d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584520" y="3573000"/>
            <a:ext cx="1513080" cy="7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32160" y="2924280"/>
            <a:ext cx="129708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160" y="836640"/>
            <a:ext cx="3384360" cy="1844640"/>
          </a:xfrm>
          <a:prstGeom prst="cloudCallout">
            <a:avLst>
              <a:gd name="adj1" fmla="val 70263"/>
              <a:gd name="adj2" fmla="val 470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xten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ry to find th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13240" y="4724280"/>
            <a:ext cx="647640" cy="12258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8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49240" y="83664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80320" y="1341360"/>
            <a:ext cx="3025800" cy="1941480"/>
          </a:xfrm>
          <a:prstGeom prst="wedgeEllipseCallout">
            <a:avLst>
              <a:gd name="adj1" fmla="val -57555"/>
              <a:gd name="adj2" fmla="val 38143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town in Japan, you have found a sport sho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180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1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s’ goods can you buy at the sh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7240" y="3213000"/>
            <a:ext cx="1224000" cy="2016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7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70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60520" y="2421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00"/>
                </a:solidFill>
                <a:latin typeface="Arial"/>
                <a:ea typeface="NtMotoyaKyotai"/>
              </a:rPr>
              <a:t>こ た 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20880" y="5589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Get a red pe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00160" y="1700280"/>
            <a:ext cx="5559480" cy="4170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4520" y="4046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’s fair is going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9240" y="2565360"/>
            <a:ext cx="1871640" cy="64764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2160" y="2637000"/>
            <a:ext cx="3168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1125360"/>
            <a:ext cx="1944720" cy="790920"/>
          </a:xfrm>
          <a:prstGeom prst="wedgeRoundRectCallout">
            <a:avLst>
              <a:gd name="adj1" fmla="val 61671"/>
              <a:gd name="adj2" fmla="val 110041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oc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81240" y="99864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is these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600880" y="3499920"/>
            <a:ext cx="187308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36880" y="4149720"/>
            <a:ext cx="2016000" cy="2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97240" y="1341360"/>
            <a:ext cx="2879640" cy="790560"/>
          </a:xfrm>
          <a:prstGeom prst="wedgeRoundRectCallout">
            <a:avLst>
              <a:gd name="adj1" fmla="val -6782"/>
              <a:gd name="adj2" fmla="val 148796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92520" y="1197000"/>
            <a:ext cx="448128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s are going o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60880" y="1268280"/>
            <a:ext cx="1655640" cy="9367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05240" y="5229360"/>
            <a:ext cx="172728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00880" y="2133720"/>
            <a:ext cx="215640" cy="2158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81600" y="2205000"/>
            <a:ext cx="7128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40520" y="3645000"/>
            <a:ext cx="2665440" cy="790560"/>
          </a:xfrm>
          <a:prstGeom prst="wedgeRoundRectCallout">
            <a:avLst>
              <a:gd name="adj1" fmla="val -92583"/>
              <a:gd name="adj2" fmla="val -115259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2880" y="3645000"/>
            <a:ext cx="1944720" cy="790560"/>
          </a:xfrm>
          <a:prstGeom prst="wedgeRoundRectCallout">
            <a:avLst>
              <a:gd name="adj1" fmla="val 76449"/>
              <a:gd name="adj2" fmla="val -117671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g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800"/>
                            </p:stCondLst>
                            <p:childTnLst>
                              <p:par>
                                <p:cTn id="37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800"/>
                            </p:stCondLst>
                            <p:childTnLst>
                              <p:par>
                                <p:cTn id="3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08160" y="1197000"/>
            <a:ext cx="3816360" cy="508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20880" y="40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 is going on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448160" y="3429000"/>
            <a:ext cx="1513080" cy="433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2160" y="1916280"/>
            <a:ext cx="1944720" cy="790560"/>
          </a:xfrm>
          <a:prstGeom prst="wedgeRoundRectCallout">
            <a:avLst>
              <a:gd name="adj1" fmla="val 75796"/>
              <a:gd name="adj2" fmla="val 110041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oc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24160" y="1341360"/>
            <a:ext cx="3687840" cy="513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4520" y="40464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 can you do if you get off a bus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016520" y="2060640"/>
            <a:ext cx="865080" cy="146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37240" y="3860280"/>
            <a:ext cx="86364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880" y="3716280"/>
            <a:ext cx="1944720" cy="790560"/>
          </a:xfrm>
          <a:prstGeom prst="wedgeRoundRectCallout">
            <a:avLst>
              <a:gd name="adj1" fmla="val 76449"/>
              <a:gd name="adj2" fmla="val -117671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24160" y="1773360"/>
            <a:ext cx="2520720" cy="720720"/>
          </a:xfrm>
          <a:prstGeom prst="rightArrow">
            <a:avLst>
              <a:gd name="adj1" fmla="val 50000"/>
              <a:gd name="adj2" fmla="val 87438"/>
            </a:avLst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ennis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0880" y="3357720"/>
            <a:ext cx="2160360" cy="649080"/>
          </a:xfrm>
          <a:prstGeom prst="leftArrow">
            <a:avLst>
              <a:gd name="adj1" fmla="val 50000"/>
              <a:gd name="adj2" fmla="val 83209"/>
            </a:avLst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ennis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39800" y="1341360"/>
            <a:ext cx="6696000" cy="5024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180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6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facility will you see if you turn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322200">
            <a:off x="3512880" y="3716280"/>
            <a:ext cx="30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36520" y="1197000"/>
            <a:ext cx="727416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3180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7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s’ counters are there on the right-hand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65600" y="3789360"/>
            <a:ext cx="309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8160" y="4508640"/>
            <a:ext cx="324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44880" y="5589720"/>
            <a:ext cx="1079640" cy="14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4520" y="1844640"/>
            <a:ext cx="3024000" cy="790560"/>
          </a:xfrm>
          <a:prstGeom prst="wedgeRoundRectCallout">
            <a:avLst>
              <a:gd name="adj1" fmla="val 44277"/>
              <a:gd name="adj2" fmla="val 105018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81760" y="3284640"/>
            <a:ext cx="2824200" cy="790560"/>
          </a:xfrm>
          <a:prstGeom prst="wedgeRoundRectCallout">
            <a:avLst>
              <a:gd name="adj1" fmla="val -73439"/>
              <a:gd name="adj2" fmla="val 56023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89600" y="5445000"/>
            <a:ext cx="2824200" cy="790560"/>
          </a:xfrm>
          <a:prstGeom prst="wedgeRoundRectCallout">
            <a:avLst>
              <a:gd name="adj1" fmla="val -82939"/>
              <a:gd name="adj2" fmla="val -31125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00160" y="1700280"/>
            <a:ext cx="5559480" cy="4170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4520" y="4046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’s fair is going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81960" y="2565360"/>
            <a:ext cx="3024000" cy="2303640"/>
          </a:xfrm>
          <a:prstGeom prst="wedgeEllipseCallout">
            <a:avLst>
              <a:gd name="adj1" fmla="val -70050"/>
              <a:gd name="adj2" fmla="val -29185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town in Japan, you have seen this signboar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9240" y="2565360"/>
            <a:ext cx="1871640" cy="7192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2160" y="2637000"/>
            <a:ext cx="3168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9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9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08160" y="1046160"/>
            <a:ext cx="7559640" cy="5811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are these books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16520" y="3068280"/>
            <a:ext cx="3024000" cy="14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08160" y="5589720"/>
            <a:ext cx="2376360" cy="71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065240" y="3068640"/>
            <a:ext cx="266364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136520" y="3573000"/>
            <a:ext cx="2664000" cy="7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1203400">
            <a:off x="3873600" y="3284640"/>
            <a:ext cx="324000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1240" y="5661000"/>
            <a:ext cx="2950920" cy="1197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1203400">
            <a:off x="1044360" y="3715920"/>
            <a:ext cx="2950920" cy="1008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0520" y="1341360"/>
            <a:ext cx="2089080" cy="790560"/>
          </a:xfrm>
          <a:prstGeom prst="wedgeRoundRectCallout">
            <a:avLst>
              <a:gd name="adj1" fmla="val -8282"/>
              <a:gd name="adj2" fmla="val 117268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32160" y="5013360"/>
            <a:ext cx="2089440" cy="790560"/>
          </a:xfrm>
          <a:prstGeom prst="wedgeRoundRectCallout">
            <a:avLst>
              <a:gd name="adj1" fmla="val -68314"/>
              <a:gd name="adj2" fmla="val -3412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052640"/>
            <a:ext cx="2592360" cy="1222200"/>
          </a:xfrm>
          <a:prstGeom prst="wedgeRoundRectCallout">
            <a:avLst>
              <a:gd name="adj1" fmla="val 16379"/>
              <a:gd name="adj2" fmla="val 88833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American 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400"/>
                            </p:stCondLst>
                            <p:childTnLst>
                              <p:par>
                                <p:cTn id="48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400"/>
                            </p:stCondLst>
                            <p:childTnLst>
                              <p:par>
                                <p:cTn id="4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900"/>
                            </p:stCondLst>
                            <p:childTnLst>
                              <p:par>
                                <p:cTn id="50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9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81240" y="907920"/>
            <a:ext cx="5975280" cy="5703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248520" y="4365720"/>
            <a:ext cx="3363840" cy="224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9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can you d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84520" y="3573000"/>
            <a:ext cx="1513080" cy="7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32160" y="2924280"/>
            <a:ext cx="129708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2880" y="3284640"/>
            <a:ext cx="2089440" cy="790560"/>
          </a:xfrm>
          <a:prstGeom prst="wedgeRoundRectCallout">
            <a:avLst>
              <a:gd name="adj1" fmla="val 99773"/>
              <a:gd name="adj2" fmla="val 1004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68520" y="1125360"/>
            <a:ext cx="2521080" cy="1151280"/>
          </a:xfrm>
          <a:prstGeom prst="wedgeRoundRectCallout">
            <a:avLst>
              <a:gd name="adj1" fmla="val 1699"/>
              <a:gd name="adj2" fmla="val 83657"/>
              <a:gd name="adj3" fmla="val 16667"/>
            </a:avLst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billiards/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4653000"/>
            <a:ext cx="647640" cy="12970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600"/>
                            </p:stCondLst>
                            <p:childTnLst>
                              <p:par>
                                <p:cTn id="5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49240" y="83664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3180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1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s’ goods can you buy at the sh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65600" y="3213000"/>
            <a:ext cx="1295640" cy="2016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936000">
            <a:off x="3944520" y="285264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40160" y="3645000"/>
            <a:ext cx="1512720" cy="574560"/>
          </a:xfrm>
          <a:prstGeom prst="rightArrow">
            <a:avLst>
              <a:gd name="adj1" fmla="val 50000"/>
              <a:gd name="adj2" fmla="val 65821"/>
            </a:avLst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4520" y="4221000"/>
            <a:ext cx="1224000" cy="574920"/>
          </a:xfrm>
          <a:prstGeom prst="rightArrow">
            <a:avLst>
              <a:gd name="adj1" fmla="val 50000"/>
              <a:gd name="adj2" fmla="val 53225"/>
            </a:avLst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249400">
            <a:off x="2865240" y="4869000"/>
            <a:ext cx="2036520" cy="650880"/>
          </a:xfrm>
          <a:prstGeom prst="rightArrow">
            <a:avLst>
              <a:gd name="adj1" fmla="val 50000"/>
              <a:gd name="adj2" fmla="val 78222"/>
            </a:avLst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61240" y="3284640"/>
            <a:ext cx="2160360" cy="649080"/>
          </a:xfrm>
          <a:prstGeom prst="leftArrow">
            <a:avLst>
              <a:gd name="adj1" fmla="val 50000"/>
              <a:gd name="adj2" fmla="val 83209"/>
            </a:avLst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now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32520" y="3933720"/>
            <a:ext cx="2160720" cy="647640"/>
          </a:xfrm>
          <a:prstGeom prst="leftArrow">
            <a:avLst>
              <a:gd name="adj1" fmla="val 50000"/>
              <a:gd name="adj2" fmla="val 83407"/>
            </a:avLst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61240" y="4724280"/>
            <a:ext cx="2160360" cy="649440"/>
          </a:xfrm>
          <a:prstGeom prst="leftArrow">
            <a:avLst>
              <a:gd name="adj1" fmla="val 50000"/>
              <a:gd name="adj2" fmla="val 83162"/>
            </a:avLst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81240" y="99864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08880" y="1052640"/>
            <a:ext cx="3097080" cy="2305080"/>
          </a:xfrm>
          <a:prstGeom prst="wedgeEllipseCallout">
            <a:avLst>
              <a:gd name="adj1" fmla="val -54152"/>
              <a:gd name="adj2" fmla="val 40976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shop in Japan, you have found these sports’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is these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00880" y="3499920"/>
            <a:ext cx="187308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36880" y="4149720"/>
            <a:ext cx="2016000" cy="2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4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9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92520" y="1197000"/>
            <a:ext cx="4481280" cy="597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s are going o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08880" y="1052640"/>
            <a:ext cx="3025800" cy="1941480"/>
          </a:xfrm>
          <a:prstGeom prst="wedgeEllipseCallout">
            <a:avLst>
              <a:gd name="adj1" fmla="val -63324"/>
              <a:gd name="adj2" fmla="val 39208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town in Japan, you have seen this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60880" y="1268280"/>
            <a:ext cx="1655640" cy="9367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05240" y="5229360"/>
            <a:ext cx="172728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00880" y="2133720"/>
            <a:ext cx="215640" cy="2158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1600" y="2205000"/>
            <a:ext cx="7128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3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8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76520" y="1268280"/>
            <a:ext cx="4192560" cy="558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20880" y="40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 is going on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08880" y="1413000"/>
            <a:ext cx="3168360" cy="2232000"/>
          </a:xfrm>
          <a:prstGeom prst="wedgeEllipseCallout">
            <a:avLst>
              <a:gd name="adj1" fmla="val -81513"/>
              <a:gd name="adj2" fmla="val 23259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train in Japan, you have seen this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016520" y="3716280"/>
            <a:ext cx="1655640" cy="50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3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300"/>
                            </p:stCondLst>
                            <p:childTnLst>
                              <p:par>
                                <p:cTn id="1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24160" y="1341360"/>
            <a:ext cx="3687840" cy="513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4520" y="40464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 can you do if you get off a bus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16520" y="2060640"/>
            <a:ext cx="865080" cy="146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737240" y="3860280"/>
            <a:ext cx="86364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08880" y="1413000"/>
            <a:ext cx="3168360" cy="2232000"/>
          </a:xfrm>
          <a:prstGeom prst="wedgeEllipseCallout">
            <a:avLst>
              <a:gd name="adj1" fmla="val -76953"/>
              <a:gd name="adj2" fmla="val 48435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 a street in Japan, you have found a bus sto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7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7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39800" y="1341360"/>
            <a:ext cx="6696000" cy="5024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180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6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facility will you see if you turn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08880" y="1052640"/>
            <a:ext cx="3097080" cy="2305080"/>
          </a:xfrm>
          <a:prstGeom prst="wedgeEllipseCallout">
            <a:avLst>
              <a:gd name="adj1" fmla="val -64300"/>
              <a:gd name="adj2" fmla="val 32504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town in Japan, you have seen this signboar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1322200">
            <a:off x="3512880" y="3716280"/>
            <a:ext cx="30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36520" y="1197000"/>
            <a:ext cx="7274160" cy="566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681960" y="981000"/>
            <a:ext cx="3025440" cy="1941480"/>
          </a:xfrm>
          <a:prstGeom prst="wedgeEllipseCallout">
            <a:avLst>
              <a:gd name="adj1" fmla="val -70041"/>
              <a:gd name="adj2" fmla="val 56296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shop in Japan, you have seenthis signboar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180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7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sports’ counters are there on the right-hand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5600" y="3789360"/>
            <a:ext cx="309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08160" y="4508640"/>
            <a:ext cx="324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4880" y="5589720"/>
            <a:ext cx="1079640" cy="14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4520" y="5013360"/>
            <a:ext cx="3384360" cy="1844640"/>
          </a:xfrm>
          <a:prstGeom prst="cloudCallout">
            <a:avLst>
              <a:gd name="adj1" fmla="val 52486"/>
              <a:gd name="adj2" fmla="val -242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xten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ry to find th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9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9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4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900"/>
                            </p:stCondLst>
                            <p:childTnLst>
                              <p:par>
                                <p:cTn id="1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70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08160" y="1046160"/>
            <a:ext cx="7559640" cy="5811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180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もんだい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Gulim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are these books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016520" y="3068280"/>
            <a:ext cx="3024000" cy="14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08160" y="5589720"/>
            <a:ext cx="2376360" cy="71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65240" y="3068640"/>
            <a:ext cx="266364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136520" y="3573000"/>
            <a:ext cx="2664000" cy="7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03400">
            <a:off x="3873600" y="3284640"/>
            <a:ext cx="324000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1240" y="5661000"/>
            <a:ext cx="2950920" cy="1197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1203400">
            <a:off x="1044360" y="3715920"/>
            <a:ext cx="2950920" cy="1008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7400" y="907920"/>
            <a:ext cx="3168720" cy="2089440"/>
          </a:xfrm>
          <a:prstGeom prst="wedgeEllipseCallout">
            <a:avLst>
              <a:gd name="adj1" fmla="val -49699"/>
              <a:gd name="adj2" fmla="val 63675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book shop in Japan, you have found these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500"/>
                            </p:stCondLst>
                            <p:childTnLst>
                              <p:par>
                                <p:cTn id="2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09-10-25T21:20:56Z</dcterms:modified>
  <cp:revision>71</cp:revision>
  <dc:subject/>
  <dc:title>スライド 1</dc:title>
</cp:coreProperties>
</file>